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E3F0-CF71-42D2-B36A-E2F88FBC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5F27-0D82-4AB5-82E8-50251C100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ites.google.com/site/bsc161/Ho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#1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7176-A5BC-48FC-A67A-E747BCE29C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7CA-0400-4E4F-989B-5CB005AA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07A-6CC2-4B57-9503-DF32B3D3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C9B-84C3-475A-BAFE-21A14CBB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CD7-9F0D-453E-97D4-460F96C6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3CE6-6798-4344-B691-0CAB1B1C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3331-D62B-44AD-AF38-BDF82CCD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46D7-49E7-4057-9C02-32756658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9C66-1B20-4094-B99C-F564E475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905E-8BAF-4C9B-B579-DB09D06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56F2-3490-4D6E-AA0B-4F744B7E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A97D-A947-4A92-A6A3-000ED135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65E-E25D-4C30-99B6-79DE6A22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280B-4477-4E77-94C4-0BDA89D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EB32-9023-42DF-ABFF-DFFC984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D56C-9A13-41EE-98F8-24FBD896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2EAA-F06A-48DF-BFED-DA2AB378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2864-1DA1-4ED1-AC13-A79F9412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93A-071C-44AC-82D8-92535A21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EC2-23F8-46ED-85A9-2D4D78C1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1E5-3B6F-459C-B41C-BCBC7A9B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268-1661-46BD-BB1D-39DB7CAC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82F-9446-4C7D-83BB-93AD3D62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FE3-DA1C-4DD4-BBD9-F3F4D956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7BB-9E22-44DA-B2A4-AF81EDB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1954440" indent="-217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1954440" indent="-217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34D2-4E13-4433-B7CF-6C23CC2AB6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A900-E957-438B-BBC5-F7B5CFEBF2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abmethods231.wikispaces.com/" TargetMode="External"/><Relationship Id="rId2" Type="http://schemas.openxmlformats.org/officeDocument/2006/relationships/hyperlink" Target="https://blackboard.ilstu.edu/webct/logon/906040953021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BSC 231 Lab Methods in Teaching Science</a:t>
            </a:r>
            <a:r>
              <a:rPr b="0" lang="en-US" sz="8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1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r. Cynthia Moo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914400" y="44956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ourse that dares to address the question: How do I become an effective hands-on inquiry science teach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Mixing Color and Water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18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orming hypothese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18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aking observation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18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erpreting observation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18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esting hypothese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Procedure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vide into groups of four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e person/group gets an activity tray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e person/group fills the beaker with water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Next week: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at is student-centered inquiry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cussion of baking powder lab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tivities – demo, hands-on, and inquir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ahoma"/>
              </a:rPr>
              <a:t>Ask </a:t>
            </a:r>
            <a:br>
              <a:rPr sz="8800"/>
            </a:br>
            <a:r>
              <a:rPr b="1" lang="en-US" sz="8800" spc="-1" strike="noStrike">
                <a:solidFill>
                  <a:srgbClr val="ffffcc"/>
                </a:solidFill>
                <a:latin typeface="Tahoma"/>
              </a:rPr>
              <a:t>questions !!</a:t>
            </a:r>
            <a:br>
              <a:rPr sz="8800"/>
            </a:br>
            <a:endParaRPr b="1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-1235160" y="422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here are no ‘right’ answers!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73392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here are ‘better’ answers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Themes</a:t>
            </a:r>
            <a:endParaRPr b="1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314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cientific inquiry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314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rimental science.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314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dapting hands-on activitie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314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assroom/lab safety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You will wear two different thinking caps in this class.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240" y="281952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30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ach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spcAft>
                <a:spcPts val="30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ud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Grades will be determined as follows: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ass participation         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%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fety exam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%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omplete activity write-up    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20%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vity Presentation     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10%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Kit development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10%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Experimental research project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30%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hree Online Locations 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3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Main course website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33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Black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33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Google doc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ssignments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rganization for cours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00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ad syllabus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00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cess the three online course sites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00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uy your 4x6 cards and bring several to class each week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alyze baking powder lab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oose partner for activity development and presentatio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Who am I like?</a:t>
            </a:r>
            <a:endParaRPr b="1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7:50:57Z</dcterms:created>
  <dc:creator>Cynthia J. Moore</dc:creator>
  <dc:description/>
  <dc:language>en-US</dc:language>
  <cp:lastModifiedBy>Cynthia Moore</cp:lastModifiedBy>
  <dcterms:modified xsi:type="dcterms:W3CDTF">2011-01-19T03:12:15Z</dcterms:modified>
  <cp:revision>30</cp:revision>
  <dc:subject/>
  <dc:title>BSC 231 Lab Methods in Teaching Science </dc:title>
</cp:coreProperties>
</file>